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22EB-298F-4AE5-9B1B-0904CA7056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5F2D-BA0C-4C6D-B94B-8B4D9DE645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E0BD-FC7E-4367-B57D-F205C7487C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D354-E3AC-4CA5-ADD1-E1584D28D2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D06A-8C8D-4A03-9C2A-B409F29720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DB2B-4B47-493A-981E-26E89BDF83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9885-EEE5-4EF8-A6B0-8F7AC91ED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6FD9-CC1E-498F-BEE6-832FE290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850B-6FF1-40E7-8267-22977DD01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620F-EFE0-4175-824E-C343F46AF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1B54-B520-4D71-9A9F-0569778DA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E8CD-1E9B-47F1-9917-31E0DC54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0566-43F7-4780-B72F-65A123D0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8585-A591-4FAA-A782-3FFE0910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C801-4075-4E65-8D06-D158FB0E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0601-7496-4E51-97DA-8CFFD7C4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5F2D-8B83-40D5-9746-76B9A6A8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CA68-0884-4B06-B0A0-117B8835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996C-11AA-47F1-848D-E1799A72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ABCB-2FDA-4672-817A-11E59AD4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C28C-16D6-4873-848F-156D1491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C805-60B3-4D45-91BF-79958690A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9E47-33BA-4953-9550-7F704DE83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9C26-102F-46FA-A627-20A69454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879C-F414-414B-BFC7-30EE2839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8CF3-3183-4DBF-9762-D81E90A2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BD30-5E1C-4A6D-A369-766FBD4D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971F-1927-4846-B102-4BCD1F1B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F811-2E10-4964-98AC-7321C436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FE7F-624E-4770-B702-1FDB76FF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A275-6976-440A-8AA6-EBD7B0A4078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7073-A3F9-463C-A500-C25EC1E878C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80520" y="6094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резентация  программы реализации инновационного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Краевой Инновационной Площад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МОУ гимназии № 87  г. Краснода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о тем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«Конкурс  индивидуальных творческих проектов учащихся основной школы как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цедура</a:t>
            </a:r>
            <a:r>
              <a:rPr b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ценивания  уровня достижения метапредметных результатов</a:t>
            </a:r>
            <a:r>
              <a:rPr b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освоения образовательной программы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оектирование -</a:t>
            </a:r>
            <a:r>
              <a:rPr b="0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аспределение  проектов учащихся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-х классов </a:t>
            </a:r>
            <a:br>
              <a:rPr sz="2400"/>
            </a:b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английскому языку среди учит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04920" y="1800360"/>
          <a:ext cx="8458200" cy="4752720"/>
        </p:xfrm>
        <a:graphic>
          <a:graphicData uri="http://schemas.openxmlformats.org/drawingml/2006/table">
            <a:tbl>
              <a:tblPr/>
              <a:tblGrid>
                <a:gridCol w="328320"/>
                <a:gridCol w="1355760"/>
                <a:gridCol w="1057320"/>
                <a:gridCol w="1260720"/>
                <a:gridCol w="1233360"/>
                <a:gridCol w="1400040"/>
                <a:gridCol w="1241640"/>
                <a:gridCol w="581040"/>
              </a:tblGrid>
              <a:tr h="23652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.И.О.  уч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 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 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 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 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32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унец Г.Ю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. Власов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. Курилло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. Палапин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. Перу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. Буряченко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. Шуль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марова И.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. Стречный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. Резников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. Новосёло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32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нопрейко Е.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. Жуков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. Карамышев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. Семёнова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. Суха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лёшкина Е.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. Кравченко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. Дьяченко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. Матвиенк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лаксина Е.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. Островерхова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. Лапш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ерасимова А.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. Рома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харян А.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marL="20520" indent="-20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бдулов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. Скоро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оектирование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распределение проектов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</a:t>
            </a:r>
            <a:r>
              <a:rPr b="1" lang="ru-RU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5 «А» классе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предметам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1143000"/>
          <a:ext cx="8305920" cy="5442120"/>
        </p:xfrm>
        <a:graphic>
          <a:graphicData uri="http://schemas.openxmlformats.org/drawingml/2006/table">
            <a:tbl>
              <a:tblPr/>
              <a:tblGrid>
                <a:gridCol w="762120"/>
                <a:gridCol w="2697120"/>
                <a:gridCol w="2422440"/>
                <a:gridCol w="2424240"/>
              </a:tblGrid>
              <a:tr h="193680"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 учител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 учащегос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40680" rIns="4068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щенкова Н.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яда Максим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зь Диа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40680" rIns="4068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щенкова Н.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шаков Владисла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рова Софь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ботин Ив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40680" rIns="4068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торик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щенкова Н.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вецкий Лу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 rowSpan="2">
                  <a:txBody>
                    <a:bodyPr lIns="40680" rIns="4068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глийский язык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нец Г.Ю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ов Иль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илло Анастас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апин Макси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унов Ант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харян А.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40680" rIns="4068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ько Н.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дзюк Игор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умаченко Владисла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40680" rIns="4068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анча К.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морова Анастас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ахо Юл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40680" rIns="4068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ознани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анча К.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фер Кири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40680" rIns="4068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тляр С.Ю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дрющенко Ант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бцова Да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40680" rIns="4068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доренко Н.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оусова Злат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хтерева Анн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ёнова Софь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40680" rIns="4068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енко С.П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убенко Ни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 rowSpan="2">
                  <a:txBody>
                    <a:bodyPr lIns="40680" rIns="4068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акова С.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фелова Екатери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милов И. В      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фанасьев Алексе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лов Серг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свиров Владисла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зов Ники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60">
                <a:tc>
                  <a:txBody>
                    <a:bodyPr lIns="40680" rIns="4068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культур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калина А.П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трофанов Ники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40680" rIns="4068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ановедени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кова Е.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40680" rIns="4068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амуж Е.С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т Аркад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гер Мар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оектировани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 материалов, выносимых на защи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</a:t>
            </a:r>
            <a:r>
              <a:rPr b="0" lang="ru-RU" sz="3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укт </a:t>
            </a: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ектной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</a:t>
            </a: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еятельности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 подготовленная учащимся </a:t>
            </a: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раткая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яснительная записка </a:t>
            </a: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 проекту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 </a:t>
            </a: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раткий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зыв руководителя</a:t>
            </a: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2"/>
          <p:cNvSpPr/>
          <p:nvPr/>
        </p:nvSpPr>
        <p:spPr>
          <a:xfrm>
            <a:off x="3132000" y="189000"/>
            <a:ext cx="2573640" cy="503280"/>
          </a:xfrm>
          <a:prstGeom prst="rect">
            <a:avLst/>
          </a:prstGeom>
          <a:solidFill>
            <a:srgbClr val="00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ехнология оценивани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3"/>
          <p:cNvSpPr/>
          <p:nvPr/>
        </p:nvSpPr>
        <p:spPr>
          <a:xfrm>
            <a:off x="395280" y="981000"/>
            <a:ext cx="2286000" cy="285840"/>
          </a:xfrm>
          <a:prstGeom prst="rect">
            <a:avLst/>
          </a:prstGeom>
          <a:solidFill>
            <a:srgbClr val="800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Планируемые результа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8"/>
          <p:cNvSpPr/>
          <p:nvPr/>
        </p:nvSpPr>
        <p:spPr>
          <a:xfrm>
            <a:off x="395280" y="1700280"/>
            <a:ext cx="2286000" cy="357120"/>
          </a:xfrm>
          <a:prstGeom prst="rect">
            <a:avLst/>
          </a:prstGeom>
          <a:solidFill>
            <a:srgbClr val="800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Экспертное сообщ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5"/>
          <p:cNvSpPr/>
          <p:nvPr/>
        </p:nvSpPr>
        <p:spPr>
          <a:xfrm>
            <a:off x="179280" y="2997360"/>
            <a:ext cx="1001880" cy="285480"/>
          </a:xfrm>
          <a:prstGeom prst="rect">
            <a:avLst/>
          </a:prstGeom>
          <a:solidFill>
            <a:srgbClr val="800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16"/>
          <p:cNvSpPr/>
          <p:nvPr/>
        </p:nvSpPr>
        <p:spPr>
          <a:xfrm>
            <a:off x="1116000" y="2349360"/>
            <a:ext cx="1079640" cy="285840"/>
          </a:xfrm>
          <a:prstGeom prst="rect">
            <a:avLst/>
          </a:prstGeom>
          <a:solidFill>
            <a:srgbClr val="800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Уче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7"/>
          <p:cNvSpPr/>
          <p:nvPr/>
        </p:nvSpPr>
        <p:spPr>
          <a:xfrm>
            <a:off x="2268360" y="2997360"/>
            <a:ext cx="1151280" cy="285480"/>
          </a:xfrm>
          <a:prstGeom prst="rect">
            <a:avLst/>
          </a:prstGeom>
          <a:solidFill>
            <a:srgbClr val="800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Родит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20"/>
          <p:cNvSpPr/>
          <p:nvPr/>
        </p:nvSpPr>
        <p:spPr>
          <a:xfrm>
            <a:off x="6443640" y="981000"/>
            <a:ext cx="2575080" cy="285840"/>
          </a:xfrm>
          <a:prstGeom prst="rect">
            <a:avLst/>
          </a:prstGeom>
          <a:solidFill>
            <a:srgbClr val="6600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Средства оценивания прое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26"/>
          <p:cNvSpPr/>
          <p:nvPr/>
        </p:nvSpPr>
        <p:spPr>
          <a:xfrm>
            <a:off x="7740720" y="1916280"/>
            <a:ext cx="1287360" cy="288720"/>
          </a:xfrm>
          <a:prstGeom prst="rect">
            <a:avLst/>
          </a:prstGeom>
          <a:solidFill>
            <a:srgbClr val="6600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Инструмент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27"/>
          <p:cNvSpPr/>
          <p:nvPr/>
        </p:nvSpPr>
        <p:spPr>
          <a:xfrm>
            <a:off x="7740720" y="1413000"/>
            <a:ext cx="1217520" cy="285480"/>
          </a:xfrm>
          <a:prstGeom prst="rect">
            <a:avLst/>
          </a:prstGeom>
          <a:solidFill>
            <a:srgbClr val="6600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Критер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28"/>
          <p:cNvSpPr/>
          <p:nvPr/>
        </p:nvSpPr>
        <p:spPr>
          <a:xfrm>
            <a:off x="3348000" y="907920"/>
            <a:ext cx="2433600" cy="428760"/>
          </a:xfrm>
          <a:prstGeom prst="rect">
            <a:avLst/>
          </a:prstGeom>
          <a:solidFill>
            <a:srgbClr val="00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Формирование экспертной компетен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36"/>
          <p:cNvSpPr/>
          <p:nvPr/>
        </p:nvSpPr>
        <p:spPr>
          <a:xfrm>
            <a:off x="5796000" y="1700280"/>
            <a:ext cx="1714320" cy="649080"/>
          </a:xfrm>
          <a:prstGeom prst="rect">
            <a:avLst/>
          </a:prstGeom>
          <a:solidFill>
            <a:srgbClr val="00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Практико-ориентированные фор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49"/>
          <p:cNvSpPr/>
          <p:nvPr/>
        </p:nvSpPr>
        <p:spPr>
          <a:xfrm>
            <a:off x="6227640" y="3213000"/>
            <a:ext cx="1357560" cy="285840"/>
          </a:xfrm>
          <a:prstGeom prst="rect">
            <a:avLst/>
          </a:prstGeom>
          <a:solidFill>
            <a:srgbClr val="00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Коллектив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50"/>
          <p:cNvSpPr/>
          <p:nvPr/>
        </p:nvSpPr>
        <p:spPr>
          <a:xfrm>
            <a:off x="7524720" y="2565360"/>
            <a:ext cx="1224000" cy="285840"/>
          </a:xfrm>
          <a:prstGeom prst="rect">
            <a:avLst/>
          </a:prstGeom>
          <a:solidFill>
            <a:srgbClr val="00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Группов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51"/>
          <p:cNvSpPr/>
          <p:nvPr/>
        </p:nvSpPr>
        <p:spPr>
          <a:xfrm>
            <a:off x="7308720" y="3716280"/>
            <a:ext cx="1727280" cy="1368360"/>
          </a:xfrm>
          <a:prstGeom prst="rect">
            <a:avLst/>
          </a:prstGeom>
          <a:solidFill>
            <a:srgbClr val="00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Calibri"/>
              </a:rPr>
              <a:t>- тренинг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Calibri"/>
              </a:rPr>
              <a:t>- организационно - деятельностные игры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Calibri"/>
              </a:rPr>
              <a:t>- «мозговые штурмы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52"/>
          <p:cNvSpPr/>
          <p:nvPr/>
        </p:nvSpPr>
        <p:spPr>
          <a:xfrm>
            <a:off x="4716360" y="3716280"/>
            <a:ext cx="1943280" cy="863640"/>
          </a:xfrm>
          <a:prstGeom prst="rect">
            <a:avLst/>
          </a:prstGeom>
          <a:solidFill>
            <a:srgbClr val="00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работа в библиотеке и в Интерне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консуль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54"/>
          <p:cNvSpPr/>
          <p:nvPr/>
        </p:nvSpPr>
        <p:spPr>
          <a:xfrm>
            <a:off x="4572000" y="2637000"/>
            <a:ext cx="1787400" cy="285480"/>
          </a:xfrm>
          <a:prstGeom prst="rect">
            <a:avLst/>
          </a:prstGeom>
          <a:solidFill>
            <a:srgbClr val="00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Индивидуаль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67"/>
          <p:cNvSpPr/>
          <p:nvPr/>
        </p:nvSpPr>
        <p:spPr>
          <a:xfrm>
            <a:off x="4932360" y="5300640"/>
            <a:ext cx="2952720" cy="1368360"/>
          </a:xfrm>
          <a:prstGeom prst="rect">
            <a:avLst/>
          </a:prstGeom>
          <a:solidFill>
            <a:srgbClr val="00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- педсовет, медсовет, классные часы, родительские собрания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- научно – практические конференци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- научно – педагогические фестива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36"/>
          <p:cNvSpPr/>
          <p:nvPr/>
        </p:nvSpPr>
        <p:spPr>
          <a:xfrm>
            <a:off x="3492360" y="1700280"/>
            <a:ext cx="1714680" cy="647640"/>
          </a:xfrm>
          <a:prstGeom prst="rect">
            <a:avLst/>
          </a:prstGeom>
          <a:solidFill>
            <a:srgbClr val="00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Теоретические фор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67"/>
          <p:cNvSpPr/>
          <p:nvPr/>
        </p:nvSpPr>
        <p:spPr>
          <a:xfrm>
            <a:off x="1979640" y="3645000"/>
            <a:ext cx="2303280" cy="1296720"/>
          </a:xfrm>
          <a:prstGeom prst="rect">
            <a:avLst/>
          </a:prstGeom>
          <a:solidFill>
            <a:srgbClr val="00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семинары КНМЦ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дистанционные курс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внутришкольные семинар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самообраз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1"/>
          <p:cNvSpPr/>
          <p:nvPr/>
        </p:nvSpPr>
        <p:spPr>
          <a:xfrm>
            <a:off x="4643280" y="6922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2"/>
          <p:cNvSpPr/>
          <p:nvPr/>
        </p:nvSpPr>
        <p:spPr>
          <a:xfrm flipH="1">
            <a:off x="1619280" y="69228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3"/>
          <p:cNvSpPr/>
          <p:nvPr/>
        </p:nvSpPr>
        <p:spPr>
          <a:xfrm>
            <a:off x="5724360" y="692280"/>
            <a:ext cx="1872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4"/>
          <p:cNvSpPr/>
          <p:nvPr/>
        </p:nvSpPr>
        <p:spPr>
          <a:xfrm>
            <a:off x="1547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5"/>
          <p:cNvSpPr/>
          <p:nvPr/>
        </p:nvSpPr>
        <p:spPr>
          <a:xfrm>
            <a:off x="1547640" y="20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6"/>
          <p:cNvSpPr/>
          <p:nvPr/>
        </p:nvSpPr>
        <p:spPr>
          <a:xfrm>
            <a:off x="1547640" y="2060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7"/>
          <p:cNvSpPr/>
          <p:nvPr/>
        </p:nvSpPr>
        <p:spPr>
          <a:xfrm flipH="1">
            <a:off x="539280" y="2565360"/>
            <a:ext cx="57636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8"/>
          <p:cNvSpPr/>
          <p:nvPr/>
        </p:nvSpPr>
        <p:spPr>
          <a:xfrm>
            <a:off x="2195640" y="2492280"/>
            <a:ext cx="64764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9"/>
          <p:cNvSpPr/>
          <p:nvPr/>
        </p:nvSpPr>
        <p:spPr>
          <a:xfrm>
            <a:off x="1187280" y="314172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0"/>
          <p:cNvSpPr/>
          <p:nvPr/>
        </p:nvSpPr>
        <p:spPr>
          <a:xfrm flipH="1">
            <a:off x="4284720" y="1341360"/>
            <a:ext cx="287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1"/>
          <p:cNvSpPr/>
          <p:nvPr/>
        </p:nvSpPr>
        <p:spPr>
          <a:xfrm>
            <a:off x="5651640" y="1341360"/>
            <a:ext cx="936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2"/>
          <p:cNvSpPr/>
          <p:nvPr/>
        </p:nvSpPr>
        <p:spPr>
          <a:xfrm>
            <a:off x="3780000" y="234936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3"/>
          <p:cNvSpPr/>
          <p:nvPr/>
        </p:nvSpPr>
        <p:spPr>
          <a:xfrm>
            <a:off x="5508720" y="2924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4"/>
          <p:cNvSpPr/>
          <p:nvPr/>
        </p:nvSpPr>
        <p:spPr>
          <a:xfrm flipH="1">
            <a:off x="5651280" y="2349360"/>
            <a:ext cx="6490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5"/>
          <p:cNvSpPr/>
          <p:nvPr/>
        </p:nvSpPr>
        <p:spPr>
          <a:xfrm>
            <a:off x="6804000" y="2349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36"/>
          <p:cNvSpPr/>
          <p:nvPr/>
        </p:nvSpPr>
        <p:spPr>
          <a:xfrm>
            <a:off x="7236000" y="2349360"/>
            <a:ext cx="720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7"/>
          <p:cNvSpPr/>
          <p:nvPr/>
        </p:nvSpPr>
        <p:spPr>
          <a:xfrm>
            <a:off x="8244000" y="2852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38"/>
          <p:cNvSpPr/>
          <p:nvPr/>
        </p:nvSpPr>
        <p:spPr>
          <a:xfrm>
            <a:off x="6948360" y="3500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9"/>
          <p:cNvSpPr/>
          <p:nvPr/>
        </p:nvSpPr>
        <p:spPr>
          <a:xfrm>
            <a:off x="8532720" y="1268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0"/>
          <p:cNvSpPr/>
          <p:nvPr/>
        </p:nvSpPr>
        <p:spPr>
          <a:xfrm>
            <a:off x="8532720" y="170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Таблица 3" descr=""/>
          <p:cNvPicPr/>
          <p:nvPr/>
        </p:nvPicPr>
        <p:blipFill>
          <a:blip r:embed="rId1"/>
          <a:stretch/>
        </p:blipFill>
        <p:spPr>
          <a:xfrm>
            <a:off x="712800" y="1500120"/>
            <a:ext cx="7718400" cy="47181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Система оценивания 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знавательных (общеучебных) УУ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Таблица 3" descr=""/>
          <p:cNvPicPr/>
          <p:nvPr/>
        </p:nvPicPr>
        <p:blipFill>
          <a:blip r:embed="rId1"/>
          <a:stretch/>
        </p:blipFill>
        <p:spPr>
          <a:xfrm>
            <a:off x="712800" y="1500120"/>
            <a:ext cx="7718400" cy="47181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Система оценивания       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знавательных (логических) УУ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Таблица 3" descr=""/>
          <p:cNvPicPr/>
          <p:nvPr/>
        </p:nvPicPr>
        <p:blipFill>
          <a:blip r:embed="rId1"/>
          <a:stretch/>
        </p:blipFill>
        <p:spPr>
          <a:xfrm>
            <a:off x="712800" y="1500120"/>
            <a:ext cx="7718400" cy="47181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Система оценивания </a:t>
            </a: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регулятивных УУ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Таблица 3" descr=""/>
          <p:cNvPicPr/>
          <p:nvPr/>
        </p:nvPicPr>
        <p:blipFill>
          <a:blip r:embed="rId1"/>
          <a:stretch/>
        </p:blipFill>
        <p:spPr>
          <a:xfrm>
            <a:off x="712800" y="1427040"/>
            <a:ext cx="7645320" cy="49309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Система оценивания </a:t>
            </a: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оммуникативных УУ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Инструменты оценивания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254061"/>
                </a:solidFill>
                <a:latin typeface="Calibri"/>
              </a:rPr>
              <a:t>– Протокол оценки презентации индивидуального проекта по теме (___________________________________________________________</a:t>
            </a:r>
            <a:br>
              <a:rPr sz="1400"/>
            </a:br>
            <a:r>
              <a:rPr b="1" lang="ru-RU" sz="1400" spc="-1" strike="noStrike">
                <a:solidFill>
                  <a:srgbClr val="254061"/>
                </a:solidFill>
                <a:latin typeface="Calibri"/>
              </a:rPr>
              <a:t>Уч-ка(цы) __ класса «___» МОУ гимназии № 87_______________________</a:t>
            </a:r>
            <a:br>
              <a:rPr sz="1400"/>
            </a:br>
            <a:r>
              <a:rPr b="1" lang="ru-RU" sz="1400" spc="-1" strike="noStrike">
                <a:solidFill>
                  <a:srgbClr val="254061"/>
                </a:solidFill>
                <a:latin typeface="Calibri"/>
              </a:rPr>
              <a:t>Руководитель проекта – учитель____________  ________________________</a:t>
            </a:r>
            <a:br>
              <a:rPr sz="1400"/>
            </a:br>
            <a:r>
              <a:rPr b="1" lang="ru-RU" sz="1400" spc="-1" strike="noStrike">
                <a:solidFill>
                  <a:srgbClr val="254061"/>
                </a:solidFill>
                <a:latin typeface="Calibri"/>
              </a:rPr>
              <a:t>                                                                                   (предмет)                                   (Ф.И.О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80880" y="1523880"/>
          <a:ext cx="8229600" cy="4192560"/>
        </p:xfrm>
        <a:graphic>
          <a:graphicData uri="http://schemas.openxmlformats.org/drawingml/2006/table">
            <a:tbl>
              <a:tblPr/>
              <a:tblGrid>
                <a:gridCol w="152640"/>
                <a:gridCol w="1523880"/>
                <a:gridCol w="2057400"/>
                <a:gridCol w="2057400"/>
                <a:gridCol w="1658880"/>
                <a:gridCol w="779400"/>
              </a:tblGrid>
              <a:tr h="198000">
                <a:tc rowSpan="2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 критерия и оценка в балл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ал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бал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балл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40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Цель(и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четко обозначена и соответствует тем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указана не вер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 четко прописаны и соответствуют цел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 указаны не вер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ю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5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раткое описание хода рабо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этапное описание хода работы соответствует план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хода работы не соответствует план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езультаты исслед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работы получены в ходе выполнения поставленной цел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отрывочны и не дают полного понимания того чего хотел добиться  авто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изай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ан собственный дизайн, презентация удобна для просмот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зентация перегружена анимацией, не удобна для просмот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выполнена по шаблону, отсутствует творческий подх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ыв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воды четкие, основанные на полученных результата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воды нуждаются в доработк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воды отсутствую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выки публичных выступлений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 использовал эффективные навыки публичных выступлений, такие как зрительный контакт, положение тела, громкость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у не всегда удавалось использовать эффективные навыки публичных выступлений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 редко использовал эффективные навыки публичных выступлений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gridSpan="6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                                      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рное количество балл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gridSpan="6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                                      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3" name="Rectangle 1"/>
          <p:cNvSpPr/>
          <p:nvPr/>
        </p:nvSpPr>
        <p:spPr>
          <a:xfrm>
            <a:off x="160200" y="5754600"/>
            <a:ext cx="42987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е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ового уровн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ка </a:t>
            </a:r>
            <a:r>
              <a:rPr b="0" lang="ru-RU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удовлетворительно»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ет получению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8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аллов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е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ых уровней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ка </a:t>
            </a:r>
            <a:r>
              <a:rPr b="0" lang="ru-RU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хорошо»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ет получению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-11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аллов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ка </a:t>
            </a:r>
            <a:r>
              <a:rPr b="0" lang="ru-RU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отлично»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ет получению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-14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балл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ы экспертной комиссии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r>
              <a:rPr b="1" lang="ru-RU" sz="16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Инструменты оценивания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- Протокол  оценки индивидуального проекта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 теме ___________________________________________________________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ч-ка(цы) 5 класса «___» МОУ гимназии №87______________________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уководитель проекта – учитель____________  ________________________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(предмет)                                   (Ф.И.О.)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57200" y="1523880"/>
          <a:ext cx="8305920" cy="4199040"/>
        </p:xfrm>
        <a:graphic>
          <a:graphicData uri="http://schemas.openxmlformats.org/drawingml/2006/table">
            <a:tbl>
              <a:tblPr/>
              <a:tblGrid>
                <a:gridCol w="1812960"/>
                <a:gridCol w="5556240"/>
                <a:gridCol w="936720"/>
              </a:tblGrid>
              <a:tr h="517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4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ер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4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арактеристика критер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-во    балл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45000"/>
                        </a:lnSpc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знавательные УУ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45000"/>
                        </a:lnSpc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видетельствует о способности самостоятельно с опорой на помощь руководителя ставить проблему и находить пути её решения; продемонстрировано свободное владение логическими операциями, навыками критического мышления, умение самостоятельно мыслить. (1-3 балл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45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92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4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Регулятивные УУ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демонстрированы навыки определения темы, цели и планирования работы. Работа доведена до конца и представлена комиссии. При этом проявляются отдельные элементы самооценки и самоконтроля обучающегося. (1-3 балл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ммуникативные УУ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емонстрированы навыки оформления проектной работы и пояснительной записки.  Все мысли выражены ясно, логично, последовательно, аргументированно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вызывает интерес. (1-3 балл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едметные УУ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45000"/>
                        </a:lnSpc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емонстрировано свободное владение предметом проектной деятельности.  В содержании работы отсутствуют грубые ошибки. (1-3 балл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 gridSpan="2"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ояснительной записки (+/-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 gridSpan="2"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отзыва руководителя (+/-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 gridSpan="2"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балл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 gridSpan="2"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Rectangle 62"/>
          <p:cNvSpPr/>
          <p:nvPr/>
        </p:nvSpPr>
        <p:spPr>
          <a:xfrm>
            <a:off x="614880" y="5663160"/>
            <a:ext cx="4271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е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ового уровн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ответствует получен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6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аллов (отметка </a:t>
            </a: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удовлетворительно»)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е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ых уровне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ответствует получ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9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аллов (отметка </a:t>
            </a: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хорошо»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1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баллов (отметка </a:t>
            </a: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отлично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ы экспертной комисс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Основная идея предлагаемого инновационного проду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дним из сложных вопросов реализации стандарта  является разработка системы диагностики и мониторинга формирования 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апредметных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УУД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:  </a:t>
            </a:r>
            <a:r>
              <a:rPr b="0" i="1" lang="ru-RU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знавательных,   регулятивных, коммуникативных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сновными критериями оценки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апредметных результатов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являютс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- способность и 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готовность к освоению знаний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, их самостоятельному пополнению, переносу и интегра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- способность к 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сотрудничеству и коммуникации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- способность к 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ешению личностно и социально значимых проблем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 воплощению найденных решений в практик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- способность и готовность к 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спользованию ИКТ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 целях обучения и развит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пособность к 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самоорганизации,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аморегуляции и рефлекс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ценка достижения метапредметных результатов может проводиться в ходе различных процедур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днако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ой процедурой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ценки является защита итогового индивидуального проекта (ФГОС ООО)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Инструменты оценивания</a:t>
            </a:r>
            <a:br>
              <a:rPr sz="2200"/>
            </a:br>
            <a:r>
              <a:rPr b="1" lang="ru-RU" sz="22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- Ведомость</a:t>
            </a:r>
            <a:br>
              <a:rPr sz="1600"/>
            </a:br>
            <a:r>
              <a:rPr b="1" lang="ru-RU" sz="16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оценки индивидуальных проектов учащихся __класса «__» МОУ гимназии №87</a:t>
            </a:r>
            <a:br>
              <a:rPr sz="1600"/>
            </a:br>
            <a:r>
              <a:rPr b="1" lang="ru-RU" sz="16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за 201_-201_ учебный год.</a:t>
            </a:r>
            <a:br>
              <a:rPr sz="1600"/>
            </a:br>
            <a:r>
              <a:rPr b="1" lang="ru-RU" sz="16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Классный руководитель___________________________________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533520" y="1905120"/>
          <a:ext cx="8001000" cy="4763880"/>
        </p:xfrm>
        <a:graphic>
          <a:graphicData uri="http://schemas.openxmlformats.org/drawingml/2006/table">
            <a:tbl>
              <a:tblPr/>
              <a:tblGrid>
                <a:gridCol w="423720"/>
                <a:gridCol w="1743120"/>
                <a:gridCol w="1481040"/>
                <a:gridCol w="1656000"/>
                <a:gridCol w="674640"/>
                <a:gridCol w="672840"/>
                <a:gridCol w="676440"/>
                <a:gridCol w="673200"/>
              </a:tblGrid>
              <a:tr h="65088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 И  учащего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 И 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презен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проек-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ражд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ч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80"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40"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40"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40"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80"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40"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40"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80"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800"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80"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40"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40"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80"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40"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40"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80"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800"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80"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зультаты учащихся </a:t>
            </a:r>
            <a:r>
              <a:rPr b="1" lang="ru-RU" sz="2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- мониторинг</a:t>
            </a:r>
            <a:br>
              <a:rPr sz="2200"/>
            </a:br>
            <a:r>
              <a:rPr b="1" lang="ru-RU" sz="2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уровня  сформированности  метапредметных УУД учащихся 5-7-х классов на основе защиты индивидуальных проект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57200" y="1676520"/>
          <a:ext cx="8001000" cy="4429080"/>
        </p:xfrm>
        <a:graphic>
          <a:graphicData uri="http://schemas.openxmlformats.org/drawingml/2006/table">
            <a:tbl>
              <a:tblPr/>
              <a:tblGrid>
                <a:gridCol w="666720"/>
                <a:gridCol w="665280"/>
                <a:gridCol w="666720"/>
                <a:gridCol w="592200"/>
                <a:gridCol w="741240"/>
                <a:gridCol w="666720"/>
                <a:gridCol w="666720"/>
                <a:gridCol w="666720"/>
                <a:gridCol w="666720"/>
                <a:gridCol w="668520"/>
                <a:gridCol w="666720"/>
                <a:gridCol w="666720"/>
              </a:tblGrid>
              <a:tr h="24588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12-2013 уч.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13-2014 уч.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14-2015 уч.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К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дости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дости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дости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5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6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7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5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6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7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5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6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7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5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6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7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5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6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7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5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6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5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6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5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6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5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6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5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6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f6d6d"/>
                          </a:solidFill>
                          <a:latin typeface="Times New Roman"/>
                          <a:ea typeface="Times New Roman"/>
                        </a:rPr>
                        <a:t>5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f6d6d"/>
                          </a:solidFill>
                          <a:latin typeface="Times New Roman"/>
                          <a:ea typeface="Times New Roman"/>
                        </a:rPr>
                        <a:t>5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f6d6d"/>
                          </a:solidFill>
                          <a:latin typeface="Times New Roman"/>
                          <a:ea typeface="Times New Roman"/>
                        </a:rPr>
                        <a:t>5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f6d6d"/>
                          </a:solidFill>
                          <a:latin typeface="Times New Roman"/>
                          <a:ea typeface="Times New Roman"/>
                        </a:rPr>
                        <a:t>5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f6d6d"/>
                          </a:solidFill>
                          <a:latin typeface="Times New Roman"/>
                          <a:ea typeface="Times New Roman"/>
                        </a:rPr>
                        <a:t>5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6091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зультаты учащихся 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Сравнение результатов шестиклассников с их прошлогодними результатами позволяет сделать вывод о том, что % работ с низким уровнем метапредметных результатов значительно снизился, а  с высоким уровнем поднялся.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ледовательно, мы стоим на правильном пути и будем продолжать работу в этом направлении в следующем учебном го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4" descr="C:\Documents and Settings\Завуч\Рабочий стол\Копия Фото  индив. проекты 2013-14\DSCN0327.jpg"/>
          <p:cNvPicPr/>
          <p:nvPr/>
        </p:nvPicPr>
        <p:blipFill>
          <a:blip r:embed="rId1"/>
          <a:stretch/>
        </p:blipFill>
        <p:spPr>
          <a:xfrm>
            <a:off x="4724280" y="2895480"/>
            <a:ext cx="4165560" cy="31244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Documents and Settings\Завуч\Рабочий стол\Копия Фото  индив. проекты 2013-14\DSCN0351.jpg"/>
          <p:cNvPicPr/>
          <p:nvPr/>
        </p:nvPicPr>
        <p:blipFill>
          <a:blip r:embed="rId2"/>
          <a:srcRect l="0" t="6815" r="0" b="0"/>
          <a:stretch/>
        </p:blipFill>
        <p:spPr>
          <a:xfrm>
            <a:off x="152280" y="2895480"/>
            <a:ext cx="44704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зультаты учителей </a:t>
            </a:r>
            <a:r>
              <a:rPr b="1" lang="ru-RU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–</a:t>
            </a:r>
            <a:br>
              <a:rPr sz="2000"/>
            </a:br>
            <a:r>
              <a:rPr b="1" lang="ru-RU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руководство научно-исследовательской деятельностью учащихся как ресурс повышения проектной и экспертной компетенц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218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Эффективность конкурса отмечается активным участием коллектива, 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5% учителей основной школы </a:t>
            </a: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заняты руководством научно-исследовательской деятельностью учащихся, чем значительно повышают свои педагогические компетенц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 этом году наибольшее число проектов подготовили следующие учител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533520" y="2514600"/>
          <a:ext cx="8229600" cy="4038480"/>
        </p:xfrm>
        <a:graphic>
          <a:graphicData uri="http://schemas.openxmlformats.org/drawingml/2006/table">
            <a:tbl>
              <a:tblPr/>
              <a:tblGrid>
                <a:gridCol w="2165400"/>
                <a:gridCol w="1763640"/>
                <a:gridCol w="836640"/>
                <a:gridCol w="904680"/>
                <a:gridCol w="838440"/>
                <a:gridCol w="907920"/>
                <a:gridCol w="812880"/>
              </a:tblGrid>
              <a:tr h="474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О уч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-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-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ерховецкая И. 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История и обществозна-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тляр С. 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Шалимов И. 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Технический тру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идоренко Н. 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Биолог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аламуж Е. 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ИЗ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лексеев П. 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Музы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унец Г. 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Англий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лмазян О. 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усский язык и литер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аевская К. 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усский язык и литер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зультаты-</a:t>
            </a:r>
            <a:r>
              <a:rPr b="0" lang="ru-RU" sz="32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дителе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ффективное включение ребенка в работу основной шко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Возможность открытого конструктивного диалога по вопросам введения новых государственных стандар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Укрепление общности семьи посредством участия в совместных с детьми делах и образовательных событиях, развитие родительской компетен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ложности при использовании инновационного проду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сновной сложностью проведения конкурса является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ссовое участие учащихся (около 450 человек) и учителей (42 педагога)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в подготовке и защите проек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 одной стороны это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ольшая дополнительная нагрузка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 учителей (подготовка от 5 до 15 проектов), требующая много сил и времени и реализующаяся за счет работы секций научного общества учащихся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ЛоМиВас»,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 занятий по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грамме «Юный исследователь»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 рамках платного дополнительного образования учащихс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 другой стороны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дение очной защиты учащихся занимает много времени.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 защиту одного проекта выделяется 3 минуты, а в секции может быть от 10 до 25 проектов, </a:t>
            </a:r>
            <a:r>
              <a:rPr b="0" lang="ru-RU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Т. Е.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 среднем 2 - 2,5 часа. Это требует выделения кабинетов и  отвлечения учителя – членов экспертной группы от основного учебного процесс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ути преодоления сложностей, возникающих при использовании инновационного продук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12-2013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учебном году в конкурсе принимали участие учащиеся пяти 5-х классов, и защита проектов проводилась в мае по класс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13-2014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учебном году в конкурсе принимали участие учащиеся пяти 5-х и пяти 6-х классов. Защита проектов проводилась в апреле-мае по предметным секциям по параллелям или разновозрастная (для малых групп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14-2015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учебном году к участию в конкурсе добавляется еще шесть 5-х классов, что вызывает необходимость смещения времени защиты. Планируется защиту проектов учащихся 7 классов (как самых опытных) провести в начале третьей четверти, 6 классов - в  конце третьей, а 5 классов - в начале четвертой четвер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Таблица 3" descr=""/>
          <p:cNvPicPr/>
          <p:nvPr/>
        </p:nvPicPr>
        <p:blipFill>
          <a:blip r:embed="rId1"/>
          <a:stretch/>
        </p:blipFill>
        <p:spPr>
          <a:xfrm>
            <a:off x="712800" y="1500120"/>
            <a:ext cx="8004240" cy="471816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мещение сроков защиты прое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Таблица 3" descr=""/>
          <p:cNvPicPr/>
          <p:nvPr/>
        </p:nvPicPr>
        <p:blipFill>
          <a:blip r:embed="rId1"/>
          <a:stretch/>
        </p:blipFill>
        <p:spPr>
          <a:xfrm>
            <a:off x="712800" y="1500120"/>
            <a:ext cx="8145360" cy="471816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овые формы защиты прое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Эффекты, достигаемые при использовани инновационного продукта-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возможность оценить</a:t>
            </a:r>
            <a:r>
              <a:rPr b="1" i="1" lang="ru-RU" sz="2800" spc="-1" strike="noStrike">
                <a:solidFill>
                  <a:srgbClr val="0033cc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чество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ыполненного проекта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-способность учащихся производить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начимый для себя и других людей продукт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-наличие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ворческого потенциал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-способность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вести дело до конца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ственность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и другие качества, формируемые в школ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Конкурс индивидуальных проектов учащихся 5-7 классов в рамках ФГОС ОО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457200" y="20574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 связи с этим в гимназии разработано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ожение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  третий год проводится </a:t>
            </a:r>
            <a:r>
              <a:rPr b="0" i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Конкурс индивидуальных творческих проектов для всех учащихся 5-7 клас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C:\Documents and Settings\Завуч\Рабочий стол\Фото  индив. проекты 2013-14\DSCN0314.jpg"/>
          <p:cNvPicPr/>
          <p:nvPr/>
        </p:nvPicPr>
        <p:blipFill>
          <a:blip r:embed="rId1"/>
          <a:srcRect l="0" t="14455" r="0" b="0"/>
          <a:stretch/>
        </p:blipFill>
        <p:spPr>
          <a:xfrm>
            <a:off x="4648320" y="3809880"/>
            <a:ext cx="4216320" cy="2705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:\Documents and Settings\Завуч\Рабочий стол\Фото  индив. проекты 2013-14\DSCN0323.jpg"/>
          <p:cNvPicPr/>
          <p:nvPr/>
        </p:nvPicPr>
        <p:blipFill>
          <a:blip r:embed="rId2"/>
          <a:srcRect l="0" t="15795" r="0" b="0"/>
          <a:stretch/>
        </p:blipFill>
        <p:spPr>
          <a:xfrm>
            <a:off x="304920" y="3886200"/>
            <a:ext cx="4133880" cy="268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9220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Эффекты, достигаемые при использовании инновационного продукта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–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возможность осознать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80520" y="1523880"/>
            <a:ext cx="81536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-     что осваиваются не только предметы, а   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мение аргументировать, моделировать, работать в групп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что способность к проектированию не сформируется, пока ученики не создадут свои собственные проекты различного типа и уровня сложности, не обсудят их, не защитят, не увидят собственные ошибки в проектировании, не исправят и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Picture 4" descr="C:\Documents and Settings\Завуч\Рабочий стол\Копия Фото  индив. проекты 2013-14\DSCN0306.jpg"/>
          <p:cNvPicPr/>
          <p:nvPr/>
        </p:nvPicPr>
        <p:blipFill>
          <a:blip r:embed="rId1"/>
          <a:stretch/>
        </p:blipFill>
        <p:spPr>
          <a:xfrm>
            <a:off x="380880" y="3581280"/>
            <a:ext cx="3986280" cy="29894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C:\Documents and Settings\Завуч\Рабочий стол\Копия Фото  индив. проекты 2013-14\DSCN0371.jpg"/>
          <p:cNvPicPr/>
          <p:nvPr/>
        </p:nvPicPr>
        <p:blipFill>
          <a:blip r:embed="rId2"/>
          <a:stretch/>
        </p:blipFill>
        <p:spPr>
          <a:xfrm>
            <a:off x="4572000" y="3581280"/>
            <a:ext cx="43178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Эффекты, достигаемые при использовании инновационного проду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23623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кспертного сообщества учителей-учащихся-родителе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меющего правильно </a:t>
            </a:r>
            <a:r>
              <a:rPr b="0" lang="ru-RU" sz="2800" spc="-1" strike="noStrike">
                <a:solidFill>
                  <a:srgbClr val="8719ff"/>
                </a:solidFill>
                <a:latin typeface="Times New Roman"/>
                <a:ea typeface="Times New Roman"/>
              </a:rPr>
              <a:t>подбирать критерии и инструмент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оценки метапредметных достижений учащихся, </a:t>
            </a:r>
            <a:r>
              <a:rPr b="0" lang="ru-RU" sz="2800" spc="-1" strike="noStrike">
                <a:solidFill>
                  <a:srgbClr val="ef6d6d"/>
                </a:solidFill>
                <a:latin typeface="Times New Roman"/>
                <a:ea typeface="Times New Roman"/>
              </a:rPr>
              <a:t>договариваться, принимать правильные решения, брать ответственн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бъём выполненных работ по использованию инновационного проду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7524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f6d6d"/>
                </a:solidFill>
                <a:latin typeface="Calibri"/>
              </a:rPr>
              <a:t>         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Использование инновационного продукта в виде методических рекомендаций по теме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«Конкурс  индивидуальных творческих проектов учащихся основной школы как процедура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ценивания  уровня достижения метапредметных результатов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освоения ООП ООО » 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рассчитано на пять лет (5-9 классы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Гимназия в рамках пилотной площадки над введением ФГОС ООО работает третий год из пяти, следовательно выполнено около 30% запланированно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ланируемые результат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-      </a:t>
            </a:r>
            <a:r>
              <a:rPr b="0" i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оложение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о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курсе индивидуальных творческих проектов учащихся основной школы 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 изменениями и дополнениям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ширенный и модернизированный ряд инструментов оценивания 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: протоколы, ведомости, сводные таблицы и т.д.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-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граммы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по написанию проекта и созданию презентации в рамках внеурочных занятий или платных дополнительных образовательных  услу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ы мониторинга 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уровня сформированности метапредметных результатов по параллелям и годам обуч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33cc"/>
              </a:solidFill>
              <a:latin typeface="Times New Roman"/>
              <a:ea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38080" y="1676520"/>
            <a:ext cx="746784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Цел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ование метапредметных универсальных учебных действмй </a:t>
            </a:r>
            <a:r>
              <a:rPr b="0" lang="ru-RU" sz="2800" spc="-1" strike="noStrike">
                <a:solidFill>
                  <a:srgbClr val="4d00a2"/>
                </a:solidFill>
                <a:latin typeface="Times New Roman"/>
                <a:ea typeface="Times New Roman"/>
              </a:rPr>
              <a:t>путем вовлечения школьников 5-7-х классов в проектную и учебно-исследовательскую деятельность </a:t>
            </a:r>
            <a:r>
              <a:rPr b="0" lang="ru-RU" sz="2800" spc="-1" strike="noStrike">
                <a:solidFill>
                  <a:srgbClr val="5d5dae"/>
                </a:solidFill>
                <a:latin typeface="Times New Roman"/>
                <a:ea typeface="Times New Roman"/>
              </a:rPr>
              <a:t>по </a:t>
            </a:r>
            <a:r>
              <a:rPr b="0" lang="ru-RU" sz="2800" spc="-1" strike="noStrike">
                <a:solidFill>
                  <a:srgbClr val="4d00a2"/>
                </a:solidFill>
                <a:latin typeface="Times New Roman"/>
                <a:ea typeface="Times New Roman"/>
              </a:rPr>
              <a:t>различным учебным предмет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d5dae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ценка уровня сформированности метапредметных результатов </a:t>
            </a:r>
            <a:r>
              <a:rPr b="0" lang="ru-RU" sz="2800" spc="-1" strike="noStrike">
                <a:solidFill>
                  <a:srgbClr val="4d00a2"/>
                </a:solidFill>
                <a:latin typeface="Times New Roman"/>
                <a:ea typeface="Times New Roman"/>
              </a:rPr>
              <a:t>освоения образовательной программы через проведение конкурса индивидуальных творческих проектов учащихся основной шко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рограмма реализации инновационного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-   разработать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информационно-методическую и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рмативно- правовую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азу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онкурс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-   разработать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технологическую схему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конкурс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- создать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менные творческие коллективы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з числа педагогов гимназии по технологии проектирования: </a:t>
            </a:r>
            <a:r>
              <a:rPr b="0" lang="ru-RU" sz="2400" spc="-1" strike="noStrike">
                <a:solidFill>
                  <a:srgbClr val="4d00a2"/>
                </a:solidFill>
                <a:latin typeface="Times New Roman"/>
                <a:ea typeface="Times New Roman"/>
              </a:rPr>
              <a:t>оказанию школьникам организационно-методической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держки</a:t>
            </a:r>
            <a:r>
              <a:rPr b="0" lang="ru-RU" sz="2400" spc="-1" strike="noStrike">
                <a:solidFill>
                  <a:srgbClr val="4d00a2"/>
                </a:solidFill>
                <a:latin typeface="Times New Roman"/>
                <a:ea typeface="Times New Roman"/>
              </a:rPr>
              <a:t> при написании  творческих работ и  представлению проектов 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- подготовить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менные творческие коллективы по  технологии экспертирования (оценивания):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разработке критериев  и инструментов  оценивания уровня сформированности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апредметных УУД как результатов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проектно-исследовательской деятельности </a:t>
            </a:r>
            <a:r>
              <a:rPr b="0" lang="ru-RU" sz="2400" spc="-1" strike="noStrike">
                <a:solidFill>
                  <a:srgbClr val="5d5dae"/>
                </a:solidFill>
                <a:latin typeface="Times New Roman"/>
                <a:ea typeface="Times New Roman"/>
              </a:rPr>
              <a:t>учащихс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4d00a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00a2"/>
                </a:solidFill>
                <a:latin typeface="Times New Roman"/>
                <a:ea typeface="Times New Roman"/>
              </a:rPr>
              <a:t>сформировать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спертное сообщество учителей, учеников и их родителей по оценке уровня достижения </a:t>
            </a:r>
            <a:r>
              <a:rPr b="0" lang="ru-RU" sz="2400" spc="-1" strike="noStrike">
                <a:solidFill>
                  <a:srgbClr val="4d00a2"/>
                </a:solidFill>
                <a:latin typeface="Times New Roman"/>
                <a:ea typeface="Times New Roman"/>
              </a:rPr>
              <a:t>метапредметных результатов освоения ООП ОО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d5dae"/>
                </a:solidFill>
                <a:latin typeface="Times New Roman"/>
                <a:ea typeface="Times New Roman"/>
              </a:rPr>
              <a:t>-   разработать систему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ниторинга </a:t>
            </a:r>
            <a:r>
              <a:rPr b="0" lang="ru-RU" sz="2400" spc="-1" strike="noStrike">
                <a:solidFill>
                  <a:srgbClr val="5d5dae"/>
                </a:solidFill>
                <a:latin typeface="Times New Roman"/>
                <a:ea typeface="Times New Roman"/>
              </a:rPr>
              <a:t>уровня сформированности метапредметных УУ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ехнологическая схе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1066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Равнобедренный треугольник 5"/>
          <p:cNvSpPr/>
          <p:nvPr/>
        </p:nvSpPr>
        <p:spPr>
          <a:xfrm>
            <a:off x="2209680" y="1523880"/>
            <a:ext cx="4429080" cy="714600"/>
          </a:xfrm>
          <a:prstGeom prst="triangle">
            <a:avLst>
              <a:gd name="adj" fmla="val 50000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Равнобедренный треугольник 7"/>
          <p:cNvSpPr/>
          <p:nvPr/>
        </p:nvSpPr>
        <p:spPr>
          <a:xfrm rot="10800000">
            <a:off x="2285640" y="4857480"/>
            <a:ext cx="4357800" cy="785880"/>
          </a:xfrm>
          <a:prstGeom prst="triangle">
            <a:avLst>
              <a:gd name="adj" fmla="val 50000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Блок-схема: узел 8"/>
          <p:cNvSpPr/>
          <p:nvPr/>
        </p:nvSpPr>
        <p:spPr>
          <a:xfrm>
            <a:off x="3500280" y="2786040"/>
            <a:ext cx="1785960" cy="1500120"/>
          </a:xfrm>
          <a:prstGeom prst="flowChartConnector">
            <a:avLst/>
          </a:prstGeom>
          <a:solidFill>
            <a:srgbClr val="fdeada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10"/>
          <p:cNvSpPr/>
          <p:nvPr/>
        </p:nvSpPr>
        <p:spPr>
          <a:xfrm>
            <a:off x="4392000" y="2786040"/>
            <a:ext cx="36360" cy="714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14"/>
          <p:cNvSpPr/>
          <p:nvPr/>
        </p:nvSpPr>
        <p:spPr>
          <a:xfrm flipH="1">
            <a:off x="3714840" y="3499560"/>
            <a:ext cx="71424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6"/>
          <p:cNvSpPr/>
          <p:nvPr/>
        </p:nvSpPr>
        <p:spPr>
          <a:xfrm>
            <a:off x="4429080" y="3500280"/>
            <a:ext cx="64296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9"/>
          <p:cNvSpPr/>
          <p:nvPr/>
        </p:nvSpPr>
        <p:spPr>
          <a:xfrm>
            <a:off x="4429080" y="321480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ПУ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0"/>
          <p:cNvSpPr/>
          <p:nvPr/>
        </p:nvSpPr>
        <p:spPr>
          <a:xfrm>
            <a:off x="4000680" y="3733920"/>
            <a:ext cx="95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КУ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1"/>
          <p:cNvSpPr/>
          <p:nvPr/>
        </p:nvSpPr>
        <p:spPr>
          <a:xfrm>
            <a:off x="3505320" y="3200400"/>
            <a:ext cx="8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У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6"/>
          <p:cNvSpPr/>
          <p:nvPr/>
        </p:nvSpPr>
        <p:spPr>
          <a:xfrm>
            <a:off x="0" y="1928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Учитель-консуль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7"/>
          <p:cNvSpPr/>
          <p:nvPr/>
        </p:nvSpPr>
        <p:spPr>
          <a:xfrm>
            <a:off x="0" y="4714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Учитель-экс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8"/>
          <p:cNvSpPr/>
          <p:nvPr/>
        </p:nvSpPr>
        <p:spPr>
          <a:xfrm>
            <a:off x="2895480" y="1066680"/>
            <a:ext cx="34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Ученик-исследов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9"/>
          <p:cNvSpPr/>
          <p:nvPr/>
        </p:nvSpPr>
        <p:spPr>
          <a:xfrm>
            <a:off x="3643200" y="571500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Ученик-экс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0"/>
          <p:cNvSpPr/>
          <p:nvPr/>
        </p:nvSpPr>
        <p:spPr>
          <a:xfrm>
            <a:off x="6643800" y="471492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Родитель-экс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1"/>
          <p:cNvSpPr/>
          <p:nvPr/>
        </p:nvSpPr>
        <p:spPr>
          <a:xfrm>
            <a:off x="6553080" y="200016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Родитель-помощ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7"/>
          <p:cNvSpPr/>
          <p:nvPr/>
        </p:nvSpPr>
        <p:spPr>
          <a:xfrm>
            <a:off x="3214800" y="2214720"/>
            <a:ext cx="32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цесс проек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8"/>
          <p:cNvSpPr/>
          <p:nvPr/>
        </p:nvSpPr>
        <p:spPr>
          <a:xfrm>
            <a:off x="3500280" y="4429080"/>
            <a:ext cx="27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цесс оцен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Прямая со стрелкой 40"/>
          <p:cNvCxnSpPr>
            <a:stCxn id="103" idx="4"/>
            <a:endCxn id="105" idx="7"/>
          </p:cNvCxnSpPr>
          <p:nvPr/>
        </p:nvCxnSpPr>
        <p:spPr>
          <a:xfrm flipH="1">
            <a:off x="5024160" y="2238480"/>
            <a:ext cx="1614960" cy="767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1" name="Прямая со стрелкой 42"/>
          <p:cNvCxnSpPr>
            <a:stCxn id="103" idx="2"/>
            <a:endCxn id="105" idx="1"/>
          </p:cNvCxnSpPr>
          <p:nvPr/>
        </p:nvCxnSpPr>
        <p:spPr>
          <a:xfrm>
            <a:off x="2208600" y="2238480"/>
            <a:ext cx="1553400" cy="767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2" name="Прямая со стрелкой 44"/>
          <p:cNvCxnSpPr>
            <a:stCxn id="104" idx="4"/>
          </p:cNvCxnSpPr>
          <p:nvPr/>
        </p:nvCxnSpPr>
        <p:spPr>
          <a:xfrm flipV="1">
            <a:off x="2286000" y="3999960"/>
            <a:ext cx="1357920" cy="857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Прямая со стрелкой 46"/>
          <p:cNvCxnSpPr>
            <a:stCxn id="104" idx="2"/>
          </p:cNvCxnSpPr>
          <p:nvPr/>
        </p:nvCxnSpPr>
        <p:spPr>
          <a:xfrm flipH="1" flipV="1">
            <a:off x="5142960" y="3999960"/>
            <a:ext cx="1500840" cy="857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Прямая со стрелкой 48"/>
          <p:cNvCxnSpPr>
            <a:stCxn id="103" idx="2"/>
            <a:endCxn id="104" idx="4"/>
          </p:cNvCxnSpPr>
          <p:nvPr/>
        </p:nvCxnSpPr>
        <p:spPr>
          <a:xfrm>
            <a:off x="2209680" y="2238480"/>
            <a:ext cx="76680" cy="2620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5" name="Прямая со стрелкой 50"/>
          <p:cNvCxnSpPr>
            <a:stCxn id="103" idx="4"/>
          </p:cNvCxnSpPr>
          <p:nvPr/>
        </p:nvCxnSpPr>
        <p:spPr>
          <a:xfrm flipH="1">
            <a:off x="6638040" y="2239920"/>
            <a:ext cx="2520" cy="2643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6" name="Прямая со стрелкой 52"/>
          <p:cNvCxnSpPr>
            <a:stCxn id="103" idx="2"/>
            <a:endCxn id="105" idx="1"/>
          </p:cNvCxnSpPr>
          <p:nvPr/>
        </p:nvCxnSpPr>
        <p:spPr>
          <a:xfrm>
            <a:off x="2208600" y="2238480"/>
            <a:ext cx="1553400" cy="767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27" name="Прямая со стрелкой 54"/>
          <p:cNvCxnSpPr>
            <a:stCxn id="103" idx="4"/>
            <a:endCxn id="105" idx="7"/>
          </p:cNvCxnSpPr>
          <p:nvPr/>
        </p:nvCxnSpPr>
        <p:spPr>
          <a:xfrm flipH="1">
            <a:off x="5024160" y="2238480"/>
            <a:ext cx="1614960" cy="767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28" name="Прямая со стрелкой 56"/>
          <p:cNvCxnSpPr>
            <a:endCxn id="104" idx="4"/>
          </p:cNvCxnSpPr>
          <p:nvPr/>
        </p:nvCxnSpPr>
        <p:spPr>
          <a:xfrm flipH="1">
            <a:off x="2285640" y="3999600"/>
            <a:ext cx="1357920" cy="857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29" name="Прямая со стрелкой 58"/>
          <p:cNvCxnSpPr>
            <a:endCxn id="104" idx="2"/>
          </p:cNvCxnSpPr>
          <p:nvPr/>
        </p:nvCxnSpPr>
        <p:spPr>
          <a:xfrm>
            <a:off x="5143320" y="4000320"/>
            <a:ext cx="1500840" cy="857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30" name="Прямая со стрелкой 60"/>
          <p:cNvCxnSpPr>
            <a:stCxn id="103" idx="2"/>
            <a:endCxn id="103" idx="0"/>
          </p:cNvCxnSpPr>
          <p:nvPr/>
        </p:nvCxnSpPr>
        <p:spPr>
          <a:xfrm flipV="1">
            <a:off x="2209680" y="1523160"/>
            <a:ext cx="221544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31" name="Прямая со стрелкой 62"/>
          <p:cNvCxnSpPr>
            <a:stCxn id="103" idx="0"/>
            <a:endCxn id="103" idx="4"/>
          </p:cNvCxnSpPr>
          <p:nvPr/>
        </p:nvCxnSpPr>
        <p:spPr>
          <a:xfrm>
            <a:off x="4423320" y="1523520"/>
            <a:ext cx="221508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32" name="Прямая со стрелкой 64"/>
          <p:cNvCxnSpPr>
            <a:stCxn id="104" idx="4"/>
          </p:cNvCxnSpPr>
          <p:nvPr/>
        </p:nvCxnSpPr>
        <p:spPr>
          <a:xfrm flipV="1">
            <a:off x="2286000" y="3999960"/>
            <a:ext cx="1357920" cy="857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33" name="Прямая со стрелкой 66"/>
          <p:cNvCxnSpPr/>
          <p:nvPr/>
        </p:nvCxnSpPr>
        <p:spPr>
          <a:xfrm>
            <a:off x="5143320" y="4000320"/>
            <a:ext cx="1500840" cy="857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34" name="Прямая со стрелкой 68"/>
          <p:cNvCxnSpPr>
            <a:stCxn id="104" idx="4"/>
            <a:endCxn id="104" idx="2"/>
          </p:cNvCxnSpPr>
          <p:nvPr/>
        </p:nvCxnSpPr>
        <p:spPr>
          <a:xfrm flipV="1">
            <a:off x="2284920" y="4857480"/>
            <a:ext cx="43599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35" name="Прямая со стрелкой 70"/>
          <p:cNvCxnSpPr>
            <a:stCxn id="104" idx="4"/>
            <a:endCxn id="104" idx="0"/>
          </p:cNvCxnSpPr>
          <p:nvPr/>
        </p:nvCxnSpPr>
        <p:spPr>
          <a:xfrm>
            <a:off x="2286000" y="4857480"/>
            <a:ext cx="2178720" cy="78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36" name="Прямая со стрелкой 72"/>
          <p:cNvCxnSpPr>
            <a:stCxn id="104" idx="2"/>
            <a:endCxn id="104" idx="0"/>
          </p:cNvCxnSpPr>
          <p:nvPr/>
        </p:nvCxnSpPr>
        <p:spPr>
          <a:xfrm flipH="1">
            <a:off x="4463280" y="4856760"/>
            <a:ext cx="2180520" cy="78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37" name="Прямая со стрелкой 74"/>
          <p:cNvCxnSpPr>
            <a:stCxn id="103" idx="4"/>
            <a:endCxn id="104" idx="2"/>
          </p:cNvCxnSpPr>
          <p:nvPr/>
        </p:nvCxnSpPr>
        <p:spPr>
          <a:xfrm>
            <a:off x="6638760" y="2238480"/>
            <a:ext cx="5760" cy="2620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38" name="Прямая со стрелкой 76"/>
          <p:cNvCxnSpPr>
            <a:stCxn id="103" idx="2"/>
            <a:endCxn id="104" idx="4"/>
          </p:cNvCxnSpPr>
          <p:nvPr/>
        </p:nvCxnSpPr>
        <p:spPr>
          <a:xfrm>
            <a:off x="2209680" y="2238480"/>
            <a:ext cx="76680" cy="2620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3"/>
          <p:cNvSpPr/>
          <p:nvPr/>
        </p:nvSpPr>
        <p:spPr>
          <a:xfrm>
            <a:off x="2571840" y="189000"/>
            <a:ext cx="2714400" cy="45396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проектир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4"/>
          <p:cNvSpPr/>
          <p:nvPr/>
        </p:nvSpPr>
        <p:spPr>
          <a:xfrm>
            <a:off x="324000" y="907920"/>
            <a:ext cx="1785960" cy="428760"/>
          </a:xfrm>
          <a:prstGeom prst="rect">
            <a:avLst/>
          </a:prstGeom>
          <a:solidFill>
            <a:srgbClr val="66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нируемые результ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5"/>
          <p:cNvSpPr/>
          <p:nvPr/>
        </p:nvSpPr>
        <p:spPr>
          <a:xfrm>
            <a:off x="395280" y="1628640"/>
            <a:ext cx="1643040" cy="357480"/>
          </a:xfrm>
          <a:prstGeom prst="rect">
            <a:avLst/>
          </a:prstGeom>
          <a:solidFill>
            <a:srgbClr val="66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е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6"/>
          <p:cNvSpPr/>
          <p:nvPr/>
        </p:nvSpPr>
        <p:spPr>
          <a:xfrm>
            <a:off x="6372360" y="907920"/>
            <a:ext cx="1785960" cy="428760"/>
          </a:xfrm>
          <a:prstGeom prst="rect">
            <a:avLst/>
          </a:prstGeom>
          <a:solidFill>
            <a:srgbClr val="9900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едства диагностики текущего состо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7"/>
          <p:cNvSpPr/>
          <p:nvPr/>
        </p:nvSpPr>
        <p:spPr>
          <a:xfrm>
            <a:off x="3132000" y="836640"/>
            <a:ext cx="1785960" cy="428760"/>
          </a:xfrm>
          <a:prstGeom prst="rect">
            <a:avLst/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дели  процесса  проект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8"/>
          <p:cNvSpPr/>
          <p:nvPr/>
        </p:nvSpPr>
        <p:spPr>
          <a:xfrm>
            <a:off x="5148360" y="3500280"/>
            <a:ext cx="1000080" cy="285840"/>
          </a:xfrm>
          <a:prstGeom prst="rect">
            <a:avLst/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9"/>
          <p:cNvSpPr/>
          <p:nvPr/>
        </p:nvSpPr>
        <p:spPr>
          <a:xfrm>
            <a:off x="2340000" y="2565360"/>
            <a:ext cx="1428840" cy="357120"/>
          </a:xfrm>
          <a:prstGeom prst="rect">
            <a:avLst/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дактическая осн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0"/>
          <p:cNvSpPr/>
          <p:nvPr/>
        </p:nvSpPr>
        <p:spPr>
          <a:xfrm>
            <a:off x="468360" y="4581360"/>
            <a:ext cx="1716120" cy="1440000"/>
          </a:xfrm>
          <a:prstGeom prst="rect">
            <a:avLst/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объяснительно-иллюстративны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рограммированны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эвристическ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роблемны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модельны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1"/>
          <p:cNvSpPr/>
          <p:nvPr/>
        </p:nvSpPr>
        <p:spPr>
          <a:xfrm>
            <a:off x="4859280" y="2565360"/>
            <a:ext cx="1503360" cy="358920"/>
          </a:xfrm>
          <a:prstGeom prst="rect">
            <a:avLst/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дагогическая тех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2"/>
          <p:cNvSpPr/>
          <p:nvPr/>
        </p:nvSpPr>
        <p:spPr>
          <a:xfrm>
            <a:off x="2556000" y="3500280"/>
            <a:ext cx="1511280" cy="285840"/>
          </a:xfrm>
          <a:prstGeom prst="rect">
            <a:avLst/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ы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3"/>
          <p:cNvSpPr/>
          <p:nvPr/>
        </p:nvSpPr>
        <p:spPr>
          <a:xfrm>
            <a:off x="395280" y="3429000"/>
            <a:ext cx="1646280" cy="500040"/>
          </a:xfrm>
          <a:prstGeom prst="rect">
            <a:avLst/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ы обучения проектиров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4"/>
          <p:cNvSpPr/>
          <p:nvPr/>
        </p:nvSpPr>
        <p:spPr>
          <a:xfrm>
            <a:off x="7380360" y="3573360"/>
            <a:ext cx="1214280" cy="285840"/>
          </a:xfrm>
          <a:prstGeom prst="rect">
            <a:avLst/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5"/>
          <p:cNvSpPr/>
          <p:nvPr/>
        </p:nvSpPr>
        <p:spPr>
          <a:xfrm>
            <a:off x="2556000" y="4581360"/>
            <a:ext cx="1785960" cy="1152720"/>
          </a:xfrm>
          <a:prstGeom prst="rect">
            <a:avLst/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НОУ «ЛоМиВас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ДО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индивидуальные за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омощь ро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4859280" y="4508640"/>
            <a:ext cx="1785960" cy="1800000"/>
          </a:xfrm>
          <a:prstGeom prst="rect">
            <a:avLst/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стоятельн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элементы алгоритм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роблемные ситу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оисковые за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использование ТС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7286760" y="1643040"/>
            <a:ext cx="1714320" cy="417600"/>
          </a:xfrm>
          <a:prstGeom prst="rect">
            <a:avLst/>
          </a:prstGeom>
          <a:solidFill>
            <a:srgbClr val="9900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яснительная запис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5357880" y="1643040"/>
            <a:ext cx="1643040" cy="417600"/>
          </a:xfrm>
          <a:prstGeom prst="rect">
            <a:avLst/>
          </a:prstGeom>
          <a:solidFill>
            <a:srgbClr val="9900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зыв руковод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0"/>
          <p:cNvSpPr/>
          <p:nvPr/>
        </p:nvSpPr>
        <p:spPr>
          <a:xfrm>
            <a:off x="6715080" y="2143080"/>
            <a:ext cx="1428840" cy="565200"/>
          </a:xfrm>
          <a:prstGeom prst="rect">
            <a:avLst/>
          </a:prstGeom>
          <a:solidFill>
            <a:srgbClr val="9900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жуточное анке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9"/>
          <p:cNvSpPr/>
          <p:nvPr/>
        </p:nvSpPr>
        <p:spPr>
          <a:xfrm>
            <a:off x="7020000" y="2924280"/>
            <a:ext cx="131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6"/>
          <p:cNvSpPr/>
          <p:nvPr/>
        </p:nvSpPr>
        <p:spPr>
          <a:xfrm>
            <a:off x="7020000" y="4508640"/>
            <a:ext cx="1785960" cy="1728720"/>
          </a:xfrm>
          <a:prstGeom prst="rect">
            <a:avLst/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ъекты окружающей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действующие мод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макеты и муляж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графические средства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С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бные пособ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1"/>
          <p:cNvSpPr/>
          <p:nvPr/>
        </p:nvSpPr>
        <p:spPr>
          <a:xfrm>
            <a:off x="1332000" y="3933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2"/>
          <p:cNvSpPr/>
          <p:nvPr/>
        </p:nvSpPr>
        <p:spPr>
          <a:xfrm>
            <a:off x="3203640" y="3789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3"/>
          <p:cNvSpPr/>
          <p:nvPr/>
        </p:nvSpPr>
        <p:spPr>
          <a:xfrm flipH="1">
            <a:off x="1116000" y="620640"/>
            <a:ext cx="1440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4"/>
          <p:cNvSpPr/>
          <p:nvPr/>
        </p:nvSpPr>
        <p:spPr>
          <a:xfrm>
            <a:off x="1187280" y="134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5"/>
          <p:cNvSpPr/>
          <p:nvPr/>
        </p:nvSpPr>
        <p:spPr>
          <a:xfrm>
            <a:off x="4067280" y="620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6"/>
          <p:cNvSpPr/>
          <p:nvPr/>
        </p:nvSpPr>
        <p:spPr>
          <a:xfrm>
            <a:off x="5292720" y="620640"/>
            <a:ext cx="1943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7"/>
          <p:cNvSpPr/>
          <p:nvPr/>
        </p:nvSpPr>
        <p:spPr>
          <a:xfrm flipH="1">
            <a:off x="6443280" y="1341360"/>
            <a:ext cx="792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8"/>
          <p:cNvSpPr/>
          <p:nvPr/>
        </p:nvSpPr>
        <p:spPr>
          <a:xfrm flipH="1">
            <a:off x="3059280" y="1268280"/>
            <a:ext cx="100800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9"/>
          <p:cNvSpPr/>
          <p:nvPr/>
        </p:nvSpPr>
        <p:spPr>
          <a:xfrm>
            <a:off x="4067280" y="1268280"/>
            <a:ext cx="122544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0"/>
          <p:cNvSpPr/>
          <p:nvPr/>
        </p:nvSpPr>
        <p:spPr>
          <a:xfrm flipH="1">
            <a:off x="1402920" y="2924280"/>
            <a:ext cx="1584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31"/>
          <p:cNvSpPr/>
          <p:nvPr/>
        </p:nvSpPr>
        <p:spPr>
          <a:xfrm>
            <a:off x="2987640" y="2924280"/>
            <a:ext cx="28908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2"/>
          <p:cNvSpPr/>
          <p:nvPr/>
        </p:nvSpPr>
        <p:spPr>
          <a:xfrm>
            <a:off x="5867280" y="2924280"/>
            <a:ext cx="216072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33"/>
          <p:cNvSpPr/>
          <p:nvPr/>
        </p:nvSpPr>
        <p:spPr>
          <a:xfrm flipH="1">
            <a:off x="5580000" y="2924280"/>
            <a:ext cx="28728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34"/>
          <p:cNvSpPr/>
          <p:nvPr/>
        </p:nvSpPr>
        <p:spPr>
          <a:xfrm>
            <a:off x="5580000" y="3789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5"/>
          <p:cNvSpPr/>
          <p:nvPr/>
        </p:nvSpPr>
        <p:spPr>
          <a:xfrm>
            <a:off x="8028000" y="3860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6"/>
          <p:cNvSpPr/>
          <p:nvPr/>
        </p:nvSpPr>
        <p:spPr>
          <a:xfrm>
            <a:off x="7236000" y="1341360"/>
            <a:ext cx="936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7"/>
          <p:cNvSpPr/>
          <p:nvPr/>
        </p:nvSpPr>
        <p:spPr>
          <a:xfrm flipH="1">
            <a:off x="7164000" y="1341360"/>
            <a:ext cx="71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оектирование</a:t>
            </a:r>
            <a:r>
              <a:rPr b="0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– формирование ряда метапредметных образовательных результатов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(познавательных, регулятивных, коммуникативных)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наиболее важных  </a:t>
            </a:r>
            <a:r>
              <a:rPr b="0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ля обучения  в основной школ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- работа с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струкциями по инструкция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- работа с знаково-символическими средствами (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делями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- работа с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ми, графиками и диаграммами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движение гипотез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 их опытная провер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- работа с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ными точками зрения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, их сопоставление и выдвижение   собственны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иск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еобходимой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форма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трольно-оценочные действия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учащихс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- сравнение, классификация, анализ и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общение данны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оектирование –  </a:t>
            </a:r>
            <a:r>
              <a:rPr b="1" lang="ru-RU" sz="3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требования к</a:t>
            </a:r>
            <a:r>
              <a:rPr b="0" lang="ru-RU" sz="3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содержанию и направленности проекта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773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9933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 проектной деятельности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должен иметь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ктическую направленность.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езультатом (продуктом) проектной деятельности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может быть любая из следующих рабо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) </a:t>
            </a:r>
            <a:r>
              <a:rPr b="0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сьменная работа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эссе, реферат, аналитические материалы, обзорные материалы, отчёты о проведённых исследованиях, стендовый доклад и др.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)  </a:t>
            </a:r>
            <a:r>
              <a:rPr b="0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удожественная творческая работа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в области литературы, музыки, изобразительного искусства, экранных искусств), представленная в виде прозаического или стихотворного произведения, инсценировки, художественной декламации, исполнения музыкального произведения, компьютерной анимации и др.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)   </a:t>
            </a:r>
            <a:r>
              <a:rPr b="0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териальный объект, макет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, иное конструкторское издел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г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 </a:t>
            </a:r>
            <a:r>
              <a:rPr b="0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чётные материалы по социальному проекту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оторые могут включать как тексты, так и мультимедийные продукт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Романченко</cp:lastModifiedBy>
  <dcterms:modified xsi:type="dcterms:W3CDTF">2015-04-16T05:56:50Z</dcterms:modified>
  <cp:revision>2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